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sound002.wav" ContentType="audio/x-wav"/>
  <Override PartName="/ppt/media/image4.gif" ContentType="image/gif"/>
  <Override PartName="/ppt/media/image11.jpeg" ContentType="image/jpeg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jpeg" ContentType="image/jpe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C0A6-9A15-49B6-8BCD-0B8F9FC7B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FAA6-8EE8-4FB6-BC15-C0DDF7DF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8E08-E72E-4226-91F9-FF2BC864B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3DE4-E1CC-4C60-B8BD-2714461D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194-1A32-4267-A4C3-F620B000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38BE-728B-4056-9449-CFDEB90E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9BC-D2C4-4E3E-B10E-943404BB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6183-EDBB-434F-9E23-F5CEC1E85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9A33-28E6-4808-ABBC-7EE1F720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FE12-EE87-40BB-9252-AB0348615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BF98-12E7-4C3F-9396-84EDF553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ABAF-E720-45C6-812D-32730B44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1708-6BA6-40C6-A836-24F17F73A38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sound002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file_1145"/>
          <p:cNvPicPr/>
          <p:nvPr/>
        </p:nvPicPr>
        <p:blipFill>
          <a:blip r:embed="rId1"/>
          <a:stretch/>
        </p:blipFill>
        <p:spPr>
          <a:xfrm>
            <a:off x="2411280" y="620640"/>
            <a:ext cx="4459320" cy="2638440"/>
          </a:xfrm>
          <a:prstGeom prst="rect">
            <a:avLst/>
          </a:prstGeom>
          <a:ln w="250920">
            <a:solidFill>
              <a:srgbClr val="b2b2b2"/>
            </a:solidFill>
            <a:miter/>
          </a:ln>
        </p:spPr>
      </p:pic>
      <p:sp>
        <p:nvSpPr>
          <p:cNvPr id="43" name="Rectangle 5"/>
          <p:cNvSpPr/>
          <p:nvPr/>
        </p:nvSpPr>
        <p:spPr>
          <a:xfrm>
            <a:off x="916920" y="4795920"/>
            <a:ext cx="759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c0c0c0"/>
                </a:solidFill>
                <a:latin typeface="Jokerman"/>
              </a:rPr>
              <a:t>               </a:t>
            </a:r>
            <a:r>
              <a:rPr b="0" lang="nl-NL" sz="2400" spc="-1" strike="noStrike">
                <a:solidFill>
                  <a:srgbClr val="c0c0c0"/>
                </a:solidFill>
                <a:latin typeface="Jokerman"/>
              </a:rPr>
              <a:t>Wat zal komen kan ik u niet vertellen.</a:t>
            </a:r>
            <a:br>
              <a:rPr sz="2400"/>
            </a:br>
            <a:r>
              <a:rPr b="0" lang="nl-NL" sz="2400" spc="-1" strike="noStrike">
                <a:solidFill>
                  <a:srgbClr val="c0c0c0"/>
                </a:solidFill>
                <a:latin typeface="Jokerman"/>
              </a:rPr>
              <a:t>Ik heb niet de gave om de toekomst te voorspellen</a:t>
            </a:r>
            <a:r>
              <a:rPr b="0" lang="nl-NL" sz="2400" spc="-1" strike="noStrike">
                <a:solidFill>
                  <a:srgbClr val="b2b2b2"/>
                </a:solidFill>
                <a:latin typeface="Jokerman"/>
              </a:rPr>
              <a:t>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1258920" y="3860640"/>
            <a:ext cx="6400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c0c0c0"/>
                </a:solidFill>
                <a:latin typeface="Jokerman"/>
              </a:rPr>
              <a:t>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404640"/>
            <a:ext cx="8229600" cy="18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Wat 2011 voor u zal breng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          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weet ik niet.</a:t>
            </a:r>
            <a:br>
              <a:rPr sz="3200"/>
            </a:b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Goed of slecht, vreugde of verdriet</a:t>
            </a:r>
            <a:r>
              <a:rPr b="0" lang="nl-NL" sz="3200" spc="-1" strike="noStrike">
                <a:solidFill>
                  <a:srgbClr val="c0c0c0"/>
                </a:solidFill>
                <a:latin typeface="Arial"/>
              </a:rPr>
              <a:t>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878760" y="5012280"/>
            <a:ext cx="774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Maar indien ik een toverstafje had.</a:t>
            </a:r>
            <a:br>
              <a:rPr sz="3200"/>
            </a:b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Dan toverde ik al het goede op uw pad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018"/>
          <p:cNvPicPr/>
          <p:nvPr/>
        </p:nvPicPr>
        <p:blipFill>
          <a:blip r:embed="rId1"/>
          <a:stretch/>
        </p:blipFill>
        <p:spPr>
          <a:xfrm>
            <a:off x="2916360" y="1844640"/>
            <a:ext cx="2733480" cy="331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58560" y="259920"/>
            <a:ext cx="6877080" cy="27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Zonneschijn, veel liefd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      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een goede                                                     gezondheid en veel vreug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Een jaar vol romantiek en deugd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hond52"/>
          <p:cNvPicPr/>
          <p:nvPr/>
        </p:nvPicPr>
        <p:blipFill>
          <a:blip r:embed="rId1"/>
          <a:stretch/>
        </p:blipFill>
        <p:spPr>
          <a:xfrm>
            <a:off x="1908000" y="2349360"/>
            <a:ext cx="5229360" cy="429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200"/>
                            </p:stCondLst>
                            <p:childTnLst>
                              <p:par>
                                <p:cTn id="4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2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8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20280"/>
            <a:ext cx="979344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   </a:t>
            </a: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Ik zou toveren alles wat uw hartje zou lust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  </a:t>
            </a: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Want eerder zou mijn stafje niet mogen rusten.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Afbeelding4"/>
          <p:cNvPicPr/>
          <p:nvPr/>
        </p:nvPicPr>
        <p:blipFill>
          <a:blip r:embed="rId1"/>
          <a:stretch/>
        </p:blipFill>
        <p:spPr>
          <a:xfrm>
            <a:off x="3348000" y="3228840"/>
            <a:ext cx="2016000" cy="1451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6"/>
          <p:cNvSpPr/>
          <p:nvPr/>
        </p:nvSpPr>
        <p:spPr>
          <a:xfrm>
            <a:off x="1580400" y="4941000"/>
            <a:ext cx="628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Maar groot is mijn verdriet.</a:t>
            </a:r>
            <a:br>
              <a:rPr sz="3200"/>
            </a:b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Want een toverstaf bezit ik niet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fee lila"/>
          <p:cNvPicPr/>
          <p:nvPr/>
        </p:nvPicPr>
        <p:blipFill>
          <a:blip r:embed="rId2"/>
          <a:stretch/>
        </p:blipFill>
        <p:spPr>
          <a:xfrm>
            <a:off x="611280" y="2073240"/>
            <a:ext cx="1800000" cy="13892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Fee lila rects"/>
          <p:cNvPicPr/>
          <p:nvPr/>
        </p:nvPicPr>
        <p:blipFill>
          <a:blip r:embed="rId3"/>
          <a:stretch/>
        </p:blipFill>
        <p:spPr>
          <a:xfrm>
            <a:off x="6012000" y="2031840"/>
            <a:ext cx="1944720" cy="1501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205280" y="549000"/>
            <a:ext cx="7046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En daar ik ook geen tovenaar ben of was.</a:t>
            </a:r>
            <a:br>
              <a:rPr sz="2800"/>
            </a:b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            Moet ik het doen zond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    </a:t>
            </a:r>
            <a:r>
              <a:rPr b="0" lang="nl-NL" sz="2800" spc="-1" strike="noStrike">
                <a:solidFill>
                  <a:srgbClr val="c0c0c0"/>
                </a:solidFill>
                <a:latin typeface="Jokerman"/>
              </a:rPr>
              <a:t>abracadabra of hocus-pocus pas.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12200" y="4723560"/>
            <a:ext cx="825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         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Daarom wens ik u alhier.</a:t>
            </a:r>
            <a:br>
              <a:rPr sz="3200"/>
            </a:b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U een gelukkig nieuwjaar op mijn manier.</a:t>
            </a:r>
            <a:r>
              <a:rPr b="0" lang="nl-NL" sz="3200" spc="-1" strike="noStrike">
                <a:solidFill>
                  <a:srgbClr val="000000"/>
                </a:solidFill>
                <a:latin typeface="Joker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proost35"/>
          <p:cNvPicPr/>
          <p:nvPr/>
        </p:nvPicPr>
        <p:blipFill>
          <a:blip r:embed="rId1"/>
          <a:stretch/>
        </p:blipFill>
        <p:spPr>
          <a:xfrm>
            <a:off x="684360" y="2852640"/>
            <a:ext cx="1982520" cy="1368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Afbeelding1"/>
          <p:cNvPicPr/>
          <p:nvPr/>
        </p:nvPicPr>
        <p:blipFill>
          <a:blip r:embed="rId2"/>
          <a:stretch/>
        </p:blipFill>
        <p:spPr>
          <a:xfrm>
            <a:off x="3274920" y="2421000"/>
            <a:ext cx="2217960" cy="2232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65" name="Picture 10" descr="proost35"/>
          <p:cNvPicPr/>
          <p:nvPr/>
        </p:nvPicPr>
        <p:blipFill>
          <a:blip r:embed="rId3"/>
          <a:stretch/>
        </p:blipFill>
        <p:spPr>
          <a:xfrm>
            <a:off x="6516720" y="2924280"/>
            <a:ext cx="198288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   </a:t>
            </a: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Ik wens en hoop dat in 201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        </a:t>
            </a: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al uw wensen en dromen.</a:t>
            </a:r>
            <a:br>
              <a:rPr sz="3200"/>
            </a:b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       Zonder mijn toversta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                  </a:t>
            </a:r>
            <a:r>
              <a:rPr b="0" lang="nl-NL" sz="3200" spc="-1" strike="noStrike">
                <a:solidFill>
                  <a:srgbClr val="ffffcc"/>
                </a:solidFill>
                <a:latin typeface="Jokerman"/>
              </a:rPr>
              <a:t>zouden uitkomen.</a:t>
            </a:r>
            <a:r>
              <a:rPr b="0" lang="nl-NL" sz="3200" spc="-1" strike="noStrike">
                <a:solidFill>
                  <a:srgbClr val="c0c0c0"/>
                </a:solidFill>
                <a:latin typeface="Joker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3" descr="nieuwjaar"/>
          <p:cNvPicPr/>
          <p:nvPr/>
        </p:nvPicPr>
        <p:blipFill>
          <a:blip r:embed="rId1"/>
          <a:stretch/>
        </p:blipFill>
        <p:spPr>
          <a:xfrm>
            <a:off x="3492360" y="3189240"/>
            <a:ext cx="3672000" cy="2549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5" descr="nieuwjaar"/>
          <p:cNvPicPr/>
          <p:nvPr/>
        </p:nvPicPr>
        <p:blipFill>
          <a:blip r:embed="rId2"/>
          <a:stretch/>
        </p:blipFill>
        <p:spPr>
          <a:xfrm>
            <a:off x="960480" y="2852640"/>
            <a:ext cx="1203120" cy="165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880"/>
                            </p:stCondLst>
                            <p:childTnLst>
                              <p:par>
                                <p:cTn id="1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8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440"/>
                            </p:stCondLst>
                            <p:childTnLst>
                              <p:par>
                                <p:cTn id="1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" dur="8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8T10:59:58Z</dcterms:created>
  <dc:creator>Nel</dc:creator>
  <dc:description/>
  <dc:language>en-US</dc:language>
  <cp:lastModifiedBy>Peter Snijders</cp:lastModifiedBy>
  <dcterms:modified xsi:type="dcterms:W3CDTF">2010-01-02T22:14:40Z</dcterms:modified>
  <cp:revision>10</cp:revision>
  <dc:subject/>
  <dc:title>Dia 1</dc:title>
</cp:coreProperties>
</file>